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909F-BBD9-4E4C-9B99-1D43D999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BB65-4139-424F-B47F-2AA956E4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C80D-83FE-4417-9E7A-318F9074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1A28-4B87-421F-8C7B-567B4185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5834-C341-4D2D-ACBA-16069F2B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8EE7-D0FC-4FFC-A5CE-7516FEF5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EAAA-10F9-4D8C-942A-66344AA1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56B3-B498-45F1-B5DB-45C32800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D46E-F2EF-4B70-B734-3721612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EEB2-4FB3-4B12-AB89-44A8A38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82B9-E4D8-448A-A03C-0C0E0D50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1293-26D2-40F6-94B0-1A4F32DA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A852-BD77-4BF7-9F50-3322DDE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12F5-9FF2-4DAF-96DE-19C570A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0BE-B3FA-4003-BBF0-D8B47DAC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5127-DAB3-419B-8C4F-32B7993E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6999-45B7-4E05-A044-31DB409A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AB01-88EB-4659-A72E-04C5EF1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2CD8-FA3F-4DEF-ABDA-3B844480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E067-2BEB-431D-B4CF-F8EB243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3E9F-303A-42C0-9B2B-0FBA94B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BFDE-645F-4619-956A-C3D4F6A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CFBF-EA84-4D69-9EE2-976EF1C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6723-EDD6-416E-98C9-F75F4DA6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0B50-A710-43A2-9400-ACB062056F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3338-818C-462D-BE60-2CC2D98E698A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РМАТИВНЫЕ ОСНОВАНИ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И И ПРОВЕДЕНИЯ ДЕМОНСТРАЦИОННОГО ЭКЗАМЕН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ОДНОЙ ИЗ ФОРМ ГОСУДАРСТВЕННОЙ ИТОГОВОЙ АТТЕСТ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екрасова Юлия Александровн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заместитель директор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менск-Уральского агропромышленного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ехникума по научно-методической работе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уководитель РЦ РПО СО агропромышленного и лесотехнического профиля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90920" y="64771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. Каменск-Уральский, 2018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ЧЕНЬ ПОРУЧЕНИЙ ПРЕЗИДЕНТА РФ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1б Перечня поручений по итогам рабочей поездки в Свердловскую область, состоявшейся 6 марта 2018 года (утв. Президентом РФ от 6 апреля 2018 г. N Пр-580)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обеспечить увеличение до 50 процентов доли организаций, которые реализуют образовательные программы среднего профессионального образования и в которых демонстрационный экзамен по стандартам «Ворлдскиллс» является одной из форм государственной итоговой аттестации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25240"/>
            <a:ext cx="8915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КОРРЕКТИРОВКА ЛОКАЛЬНЫХ НОРМАТИВНЫХ АКТО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120" y="17478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 в ПОО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7840" y="35812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оведения государственной итоговой аттестации по образовательной программе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ержденный приказом Министерства образования и науки РФ от 16 августа 2013 г. N 968, с изменениями, внесенными приказом Министерства образования и науки РФ от 31 января 2014 г. N 74 и приказом Министерства образования и науки РФ от 17 ноября 2017 г. N 1138.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3114720" y="409572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52280" y="4724280"/>
            <a:ext cx="8805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выпускники по рабочим профессиям выполняют «выпускную практическую квалификационную работу и письменную экзаменационную рабо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монстрационный экзамен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профессии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3352680" y="2606760"/>
            <a:ext cx="1305000" cy="60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33520" y="34290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8.6  «Государственная итоговая аттестация включает защиту выпускной квалификационной работы (выпускная практическая квалификационная работа и письменная экзаменационная работа)»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-6480" y="2752560"/>
            <a:ext cx="896940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«В зависимости от осваиваемой образовательной программы СПО и в соответствии с ФГОС СПО выпускная квалификационная работа выполняется в следующих видах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ная работа (дипломный проект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(ил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ационный экзамен - для выпускников, осваивающих программы подготовки специалистов среднего звена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специальност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-6480" y="2752560"/>
            <a:ext cx="89694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 8.6. «Государственная итоговая аттестация включает подготовку и защи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ой квалификационн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ипломная работа, дипломный проект). Обязательное требование - соответствие тематики выпускной квалификационной работы содержанию одного или нескольких профессиональных модуле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вводится по усмотрению образовательной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43080" y="13716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форме ДЭ и в форме практического задания, разработанного внутри ПОО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ЭР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52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пломная работа, дипломный проект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форме ДЭ и в форме любого практического задания, разработанного внутри ПОО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12-02T11:13:40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